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6.png" ContentType="image/png"/>
  <Override PartName="/ppt/media/image20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942513" cy="6811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877-1355-4A3C-96E0-EF65F93D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68E-6F46-4A12-9731-CBA35B1E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344-D8F3-46F8-9CF2-85E5AB2B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490-638F-4332-8F10-7EB0E39B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3F11-17D9-4727-83DA-62652593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EABB-927E-4281-8BC7-BCFD9A49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030B-FB86-4A3F-B580-94880414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088F-F9C6-4F68-A090-B220F9FB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89A2-51F3-4842-B196-BB2E3A83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368F-2258-4CC3-B552-C0F93C97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0B01-692B-41B0-81B5-64B806F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A47-895D-48D2-AD0E-24B83B3D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F492-25B9-4D4C-B19F-55DF92A5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CE44-8F05-4553-BB34-9D610614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6C3E-03D1-441D-ACF0-6EDCDEE4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FDF6-1367-49DE-B5CF-3B515B7A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28C2-CA84-4522-8849-A629B597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67C-5195-46B0-AD6F-3C6DB10E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F0B-654B-4C8C-BC2C-FEDBB506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68E-D60A-4327-A8F0-99477B36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E9E-3E18-422F-AC5A-134C9293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584-6BFA-4EC5-B88B-027922C4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646-324E-4F8B-A82D-CA66597A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119-6DBC-4544-B0C8-3009DE89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1028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1029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1030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33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34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3905-7BE7-49E5-BC29-636EECCB2896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26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1027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28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029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030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031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032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33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4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035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036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03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038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039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040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C569-1239-4C27-A19E-218102F05703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43&amp;rayon_cat=Cartes.postales" TargetMode="External"/><Relationship Id="rId2" Type="http://schemas.openxmlformats.org/officeDocument/2006/relationships/hyperlink" Target="http://www.marcel-pagnol.com/le-monde-de-marcel-pagnol/articles.php3?session=KRLwWglu&amp;ItemID=143&amp;rayon_cat=Cartes.postales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41&amp;rayon_cat=Cartes.postales" TargetMode="External"/><Relationship Id="rId2" Type="http://schemas.openxmlformats.org/officeDocument/2006/relationships/hyperlink" Target="http://www.marcel-pagnol.com/le-monde-de-marcel-pagnol/articles.php3?session=KRLwWglu&amp;ItemID=141&amp;rayon_cat=Cartes.postales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45&amp;rayon_cat=Cartes.postales" TargetMode="External"/><Relationship Id="rId2" Type="http://schemas.openxmlformats.org/officeDocument/2006/relationships/hyperlink" Target="http://www.marcel-pagnol.com/le-monde-de-marcel-pagnol/articles.php3?session=KRLwWglu&amp;ItemID=45&amp;rayon_cat=Cartes.postales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51&amp;rayon_cat=Cartes.postales" TargetMode="External"/><Relationship Id="rId2" Type="http://schemas.openxmlformats.org/officeDocument/2006/relationships/hyperlink" Target="http://www.marcel-pagnol.com/le-monde-de-marcel-pagnol/articles.php3?session=KRLwWglu&amp;ItemID=151&amp;rayon_cat=Cartes.postales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60&amp;rayon_cat=Posters" TargetMode="External"/><Relationship Id="rId2" Type="http://schemas.openxmlformats.org/officeDocument/2006/relationships/hyperlink" Target="http://www.marcel-pagnol.com/le-monde-de-marcel-pagnol/articles.php3?session=KRLwWglu&amp;ItemID=160&amp;rayon_cat=Posters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58&amp;rayon_cat=Posters" TargetMode="External"/><Relationship Id="rId2" Type="http://schemas.openxmlformats.org/officeDocument/2006/relationships/hyperlink" Target="http://www.marcel-pagnol.com/le-monde-de-marcel-pagnol/articles.php3?session=KRLwWglu&amp;ItemID=158&amp;rayon_cat=Posters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rcel-pagnol.com/fr/homme/amours.htm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0000"/>
                </a:solidFill>
                <a:latin typeface="Times New Roman"/>
              </a:rPr>
              <a:t>Marcel Pagnol</a:t>
            </a:r>
            <a:r>
              <a:rPr b="1" i="1" lang="en-GB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5400"/>
            </a:br>
            <a:r>
              <a:rPr b="1" i="1" lang="en-GB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5-19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e suis né dans la ville d’Aubagne, sous le Garlaban couronné de chèvres, au temps des derniers chevriers…’ 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19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’école de 1900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…] j’admirais la toute-puissance paternelle.’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p. 31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le Souverain Bien’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lon le grand-père d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cel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a Gloire de mon père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. 14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maitresse.jpg (24218 octets)"/>
          <p:cNvPicPr/>
          <p:nvPr/>
        </p:nvPicPr>
        <p:blipFill>
          <a:blip r:embed="rId1"/>
          <a:stretch/>
        </p:blipFill>
        <p:spPr>
          <a:xfrm>
            <a:off x="1536840" y="1981080"/>
            <a:ext cx="362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e professeur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915 à Taras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923 – à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fond_prov"/>
          <p:cNvPicPr/>
          <p:nvPr/>
        </p:nvPicPr>
        <p:blipFill>
          <a:blip r:embed="rId1"/>
          <a:stretch/>
        </p:blipFill>
        <p:spPr>
          <a:xfrm>
            <a:off x="1523880" y="2924280"/>
            <a:ext cx="76201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Topaze  </a:t>
            </a: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(1928)</a:t>
            </a: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 pièce de théâ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is un film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rnandel joue Topaze 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0"/>
          <p:cNvGrpSpPr/>
          <p:nvPr/>
        </p:nvGrpSpPr>
        <p:grpSpPr>
          <a:xfrm>
            <a:off x="2819520" y="2592360"/>
            <a:ext cx="1066680" cy="2360160"/>
            <a:chOff x="2819520" y="2592360"/>
            <a:chExt cx="1066680" cy="2360160"/>
          </a:xfrm>
        </p:grpSpPr>
        <p:grpSp>
          <p:nvGrpSpPr>
            <p:cNvPr id="148" name="Group 8"/>
            <p:cNvGrpSpPr/>
            <p:nvPr/>
          </p:nvGrpSpPr>
          <p:grpSpPr>
            <a:xfrm>
              <a:off x="2822400" y="2617200"/>
              <a:ext cx="1060920" cy="2309760"/>
              <a:chOff x="2822400" y="2617200"/>
              <a:chExt cx="1060920" cy="2309760"/>
            </a:xfrm>
          </p:grpSpPr>
          <p:sp>
            <p:nvSpPr>
              <p:cNvPr id="149" name="Rectangle 5"/>
              <p:cNvSpPr/>
              <p:nvPr/>
            </p:nvSpPr>
            <p:spPr>
              <a:xfrm>
                <a:off x="2822400" y="2617200"/>
                <a:ext cx="1060920" cy="23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GB" sz="10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7"/>
              <p:cNvSpPr/>
              <p:nvPr/>
            </p:nvSpPr>
            <p:spPr>
              <a:xfrm>
                <a:off x="2822400" y="2617200"/>
                <a:ext cx="1060920" cy="230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Rectangle 9"/>
            <p:cNvSpPr/>
            <p:nvPr/>
          </p:nvSpPr>
          <p:spPr>
            <a:xfrm>
              <a:off x="2819520" y="2592360"/>
              <a:ext cx="1066680" cy="236016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2362320"/>
            <a:ext cx="29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ius </a:t>
            </a: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(1929)</a:t>
            </a: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 pièce de théâ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imu joue Cé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7010280" y="3200400"/>
            <a:ext cx="762120" cy="905040"/>
            <a:chOff x="7010280" y="3200400"/>
            <a:chExt cx="762120" cy="905040"/>
          </a:xfrm>
        </p:grpSpPr>
        <p:grpSp>
          <p:nvGrpSpPr>
            <p:cNvPr id="156" name="Group 8"/>
            <p:cNvGrpSpPr/>
            <p:nvPr/>
          </p:nvGrpSpPr>
          <p:grpSpPr>
            <a:xfrm>
              <a:off x="7012080" y="3218040"/>
              <a:ext cx="758160" cy="870120"/>
              <a:chOff x="7012080" y="3218040"/>
              <a:chExt cx="758160" cy="870120"/>
            </a:xfrm>
          </p:grpSpPr>
          <p:sp>
            <p:nvSpPr>
              <p:cNvPr id="157" name="Rectangle 5"/>
              <p:cNvSpPr/>
              <p:nvPr/>
            </p:nvSpPr>
            <p:spPr>
              <a:xfrm>
                <a:off x="7012080" y="3218040"/>
                <a:ext cx="758160" cy="8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GB" sz="5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7"/>
              <p:cNvSpPr/>
              <p:nvPr/>
            </p:nvSpPr>
            <p:spPr>
              <a:xfrm>
                <a:off x="7012080" y="3218040"/>
                <a:ext cx="758160" cy="870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Rectangle 9"/>
            <p:cNvSpPr/>
            <p:nvPr/>
          </p:nvSpPr>
          <p:spPr>
            <a:xfrm>
              <a:off x="7010280" y="3200400"/>
              <a:ext cx="762120" cy="90504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2133720"/>
            <a:ext cx="4152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ius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film)</a:t>
            </a: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     (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1931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mier film de Pag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début du cinéma par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"/>
          <p:cNvGrpSpPr/>
          <p:nvPr/>
        </p:nvGrpSpPr>
        <p:grpSpPr>
          <a:xfrm>
            <a:off x="6705720" y="2992320"/>
            <a:ext cx="1119240" cy="873360"/>
            <a:chOff x="6705720" y="2992320"/>
            <a:chExt cx="1119240" cy="873360"/>
          </a:xfrm>
        </p:grpSpPr>
        <p:grpSp>
          <p:nvGrpSpPr>
            <p:cNvPr id="164" name="Group 8"/>
            <p:cNvGrpSpPr/>
            <p:nvPr/>
          </p:nvGrpSpPr>
          <p:grpSpPr>
            <a:xfrm>
              <a:off x="6708600" y="3009960"/>
              <a:ext cx="1113480" cy="838080"/>
              <a:chOff x="6708600" y="3009960"/>
              <a:chExt cx="1113480" cy="838080"/>
            </a:xfrm>
          </p:grpSpPr>
          <p:sp>
            <p:nvSpPr>
              <p:cNvPr id="165" name="Rectangle 5"/>
              <p:cNvSpPr/>
              <p:nvPr/>
            </p:nvSpPr>
            <p:spPr>
              <a:xfrm>
                <a:off x="6708600" y="3009960"/>
                <a:ext cx="111348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2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GB" sz="49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7"/>
              <p:cNvSpPr/>
              <p:nvPr/>
            </p:nvSpPr>
            <p:spPr>
              <a:xfrm>
                <a:off x="6708600" y="3009960"/>
                <a:ext cx="1113480" cy="838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9"/>
            <p:cNvSpPr/>
            <p:nvPr/>
          </p:nvSpPr>
          <p:spPr>
            <a:xfrm>
              <a:off x="6705720" y="2992320"/>
              <a:ext cx="1119240" cy="87336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9040" y="2747880"/>
            <a:ext cx="37368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ius –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la partie de carte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0" name="Picture 3" descr="intro2"/>
          <p:cNvPicPr/>
          <p:nvPr/>
        </p:nvPicPr>
        <p:blipFill>
          <a:blip r:embed="rId1"/>
          <a:stretch/>
        </p:blipFill>
        <p:spPr>
          <a:xfrm>
            <a:off x="2133720" y="1981080"/>
            <a:ext cx="66294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Fanny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32)   - pièce &gt; film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72" name="Group 15"/>
          <p:cNvGrpSpPr/>
          <p:nvPr/>
        </p:nvGrpSpPr>
        <p:grpSpPr>
          <a:xfrm>
            <a:off x="3809880" y="2819520"/>
            <a:ext cx="2057400" cy="1650960"/>
            <a:chOff x="3809880" y="2819520"/>
            <a:chExt cx="2057400" cy="1650960"/>
          </a:xfrm>
        </p:grpSpPr>
        <p:grpSp>
          <p:nvGrpSpPr>
            <p:cNvPr id="173" name="Group 13"/>
            <p:cNvGrpSpPr/>
            <p:nvPr/>
          </p:nvGrpSpPr>
          <p:grpSpPr>
            <a:xfrm>
              <a:off x="3815280" y="2836800"/>
              <a:ext cx="2046240" cy="1615680"/>
              <a:chOff x="3815280" y="2836800"/>
              <a:chExt cx="2046240" cy="1615680"/>
            </a:xfrm>
          </p:grpSpPr>
          <p:sp>
            <p:nvSpPr>
              <p:cNvPr id="174" name="Rectangle 10"/>
              <p:cNvSpPr/>
              <p:nvPr/>
            </p:nvSpPr>
            <p:spPr>
              <a:xfrm>
                <a:off x="3815280" y="2836800"/>
                <a:ext cx="2046240" cy="16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hlinkClick r:id="rId1"/>
                  </a:rPr>
                  <a:t>  </a:t>
                </a:r>
                <a:r>
                  <a:rPr b="0" lang="en-GB" sz="10000" spc="-1" strike="noStrike">
                    <a:solidFill>
                      <a:srgbClr val="30278a"/>
                    </a:solidFill>
                    <a:latin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12"/>
              <p:cNvSpPr/>
              <p:nvPr/>
            </p:nvSpPr>
            <p:spPr>
              <a:xfrm>
                <a:off x="3815280" y="2836800"/>
                <a:ext cx="2046240" cy="161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Rectangle 14"/>
            <p:cNvSpPr/>
            <p:nvPr/>
          </p:nvSpPr>
          <p:spPr>
            <a:xfrm>
              <a:off x="3809880" y="2819520"/>
              <a:ext cx="2057400" cy="165096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057400"/>
            <a:ext cx="3657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FILM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1934 - 1940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cel Pagnol réalise les films : "JOFROI", "ANGELE", "MERLUSSE", "CIGALON", "TOPAZE" (deuxième version), "REGAIN", "CESAR", "LE SCHPOUNTZ", "LA FEMME DU BOULANGER", "LA FILLE DU PUISATIER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6400800" y="2666880"/>
            <a:ext cx="1398600" cy="2666880"/>
            <a:chOff x="6400800" y="2666880"/>
            <a:chExt cx="1398600" cy="2666880"/>
          </a:xfrm>
        </p:grpSpPr>
        <p:grpSp>
          <p:nvGrpSpPr>
            <p:cNvPr id="181" name="Group 8"/>
            <p:cNvGrpSpPr/>
            <p:nvPr/>
          </p:nvGrpSpPr>
          <p:grpSpPr>
            <a:xfrm>
              <a:off x="6404400" y="2698200"/>
              <a:ext cx="1391040" cy="2604240"/>
              <a:chOff x="6404400" y="2698200"/>
              <a:chExt cx="1391040" cy="2604240"/>
            </a:xfrm>
          </p:grpSpPr>
          <p:sp>
            <p:nvSpPr>
              <p:cNvPr id="182" name="Rectangle 5"/>
              <p:cNvSpPr/>
              <p:nvPr/>
            </p:nvSpPr>
            <p:spPr>
              <a:xfrm>
                <a:off x="6404400" y="2698200"/>
                <a:ext cx="1391040" cy="260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"/>
              <p:cNvSpPr/>
              <p:nvPr/>
            </p:nvSpPr>
            <p:spPr>
              <a:xfrm>
                <a:off x="6404400" y="2698200"/>
                <a:ext cx="1391040" cy="260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Rectangle 9"/>
            <p:cNvSpPr/>
            <p:nvPr/>
          </p:nvSpPr>
          <p:spPr>
            <a:xfrm>
              <a:off x="6400800" y="2666880"/>
              <a:ext cx="1398600" cy="266688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91160" y="198108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Femme du boulanger 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38 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1320840" y="2984400"/>
            <a:ext cx="6504120" cy="889200"/>
            <a:chOff x="1320840" y="2984400"/>
            <a:chExt cx="6504120" cy="889200"/>
          </a:xfrm>
        </p:grpSpPr>
        <p:grpSp>
          <p:nvGrpSpPr>
            <p:cNvPr id="188" name="Group 6"/>
            <p:cNvGrpSpPr/>
            <p:nvPr/>
          </p:nvGrpSpPr>
          <p:grpSpPr>
            <a:xfrm>
              <a:off x="1338480" y="3002040"/>
              <a:ext cx="6469200" cy="853920"/>
              <a:chOff x="1338480" y="3002040"/>
              <a:chExt cx="6469200" cy="853920"/>
            </a:xfrm>
          </p:grpSpPr>
          <p:sp>
            <p:nvSpPr>
              <p:cNvPr id="189" name="Rectangle 3"/>
              <p:cNvSpPr/>
              <p:nvPr/>
            </p:nvSpPr>
            <p:spPr>
              <a:xfrm>
                <a:off x="1338480" y="3002040"/>
                <a:ext cx="646920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GB" sz="50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5"/>
              <p:cNvSpPr/>
              <p:nvPr/>
            </p:nvSpPr>
            <p:spPr>
              <a:xfrm>
                <a:off x="1338480" y="3002040"/>
                <a:ext cx="6469200" cy="853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7"/>
            <p:cNvSpPr/>
            <p:nvPr/>
          </p:nvSpPr>
          <p:spPr>
            <a:xfrm>
              <a:off x="1320840" y="2984400"/>
              <a:ext cx="6504120" cy="88920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2" name="Picture 4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2057400"/>
            <a:ext cx="6629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iage</a:t>
            </a:r>
            <a:r>
              <a:rPr b="0" i="1" lang="en-GB" sz="3600" spc="-1" strike="noStrike">
                <a:solidFill>
                  <a:srgbClr val="996633"/>
                </a:solidFill>
                <a:latin typeface="Times New Roman"/>
              </a:rPr>
              <a:t>    1945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ec Jacqueline Bouv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 jouera Manon des sources (195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623880" y="2903400"/>
            <a:ext cx="7897680" cy="1052640"/>
            <a:chOff x="623880" y="2903400"/>
            <a:chExt cx="7897680" cy="1052640"/>
          </a:xfrm>
        </p:grpSpPr>
        <p:sp>
          <p:nvSpPr>
            <p:cNvPr id="196" name="Rectangle 5"/>
            <p:cNvSpPr/>
            <p:nvPr/>
          </p:nvSpPr>
          <p:spPr>
            <a:xfrm>
              <a:off x="623880" y="2903400"/>
              <a:ext cx="7897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623880" y="2903400"/>
              <a:ext cx="7897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5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Picture 9" descr="jacquel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9600" y="2089080"/>
            <a:ext cx="37368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0000"/>
                </a:solidFill>
                <a:latin typeface="Times New Roman"/>
              </a:rPr>
              <a:t>L’auteur – Marcel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62560" y="19810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895 - Naissance de Marcel Pagnol à Aubagne  (près de Marseil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Marcel"/>
          <p:cNvPicPr/>
          <p:nvPr/>
        </p:nvPicPr>
        <p:blipFill>
          <a:blip r:embed="rId1"/>
          <a:stretch/>
        </p:blipFill>
        <p:spPr>
          <a:xfrm>
            <a:off x="1690560" y="2268360"/>
            <a:ext cx="327816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’Académie Français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946 – devient membre de L’Académie franç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issance de son fils, Frédé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623880" y="2408400"/>
            <a:ext cx="7897680" cy="2043000"/>
            <a:chOff x="623880" y="2408400"/>
            <a:chExt cx="7897680" cy="2043000"/>
          </a:xfrm>
        </p:grpSpPr>
        <p:sp>
          <p:nvSpPr>
            <p:cNvPr id="202" name="Rectangle 5"/>
            <p:cNvSpPr/>
            <p:nvPr/>
          </p:nvSpPr>
          <p:spPr>
            <a:xfrm>
              <a:off x="623880" y="2408400"/>
              <a:ext cx="7897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623880" y="2408400"/>
              <a:ext cx="789768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1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Picture 9" descr="jacqueline_academ2"/>
          <p:cNvPicPr/>
          <p:nvPr/>
        </p:nvPicPr>
        <p:blipFill>
          <a:blip r:embed="rId1"/>
          <a:stretch/>
        </p:blipFill>
        <p:spPr>
          <a:xfrm>
            <a:off x="1479600" y="2398680"/>
            <a:ext cx="37368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996633"/>
                </a:solidFill>
                <a:latin typeface="Times New Roman"/>
              </a:rPr>
              <a:t>(1957)</a:t>
            </a: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  Souvenirs d’enfanc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Le Château de ma mè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293 best of Le ch"/>
          <p:cNvPicPr/>
          <p:nvPr/>
        </p:nvPicPr>
        <p:blipFill>
          <a:blip r:embed="rId1"/>
          <a:stretch/>
        </p:blipFill>
        <p:spPr>
          <a:xfrm>
            <a:off x="2395440" y="2705040"/>
            <a:ext cx="1905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e Temps des secrets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60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oisième volume d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ouven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30" descr="Souvenirs d'enfance, Tome 3 : Le Temps des secrets"/>
          <p:cNvPicPr/>
          <p:nvPr/>
        </p:nvPicPr>
        <p:blipFill>
          <a:blip r:embed="rId1"/>
          <a:stretch/>
        </p:blipFill>
        <p:spPr>
          <a:xfrm>
            <a:off x="1835280" y="2133720"/>
            <a:ext cx="2665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’Eau des Collines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63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Jean de Flo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anon des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5" descr="Jean de Florette DVD: World Films"/>
          <p:cNvPicPr/>
          <p:nvPr/>
        </p:nvPicPr>
        <p:blipFill>
          <a:blip r:embed="rId1"/>
          <a:stretch/>
        </p:blipFill>
        <p:spPr>
          <a:xfrm>
            <a:off x="1739880" y="1981080"/>
            <a:ext cx="321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Mort de Marcel Pagnol</a:t>
            </a: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74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77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e Temps des am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trième volume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ouvenirs d’enf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pagnolcohen"/>
          <p:cNvPicPr/>
          <p:nvPr/>
        </p:nvPicPr>
        <p:blipFill>
          <a:blip r:embed="rId1"/>
          <a:stretch/>
        </p:blipFill>
        <p:spPr>
          <a:xfrm>
            <a:off x="1835280" y="2349360"/>
            <a:ext cx="35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Les Talents de Marcel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né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manc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amatu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énari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stori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du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sayi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è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857160" y="1546200"/>
            <a:ext cx="7429680" cy="3765600"/>
            <a:chOff x="857160" y="1546200"/>
            <a:chExt cx="7429680" cy="3765600"/>
          </a:xfrm>
        </p:grpSpPr>
        <p:sp>
          <p:nvSpPr>
            <p:cNvPr id="221" name="Rectangle 5"/>
            <p:cNvSpPr/>
            <p:nvPr/>
          </p:nvSpPr>
          <p:spPr>
            <a:xfrm>
              <a:off x="857160" y="1546200"/>
              <a:ext cx="742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57160" y="1546200"/>
              <a:ext cx="7429680" cy="37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23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7" descr="pagnol2e"/>
          <p:cNvPicPr/>
          <p:nvPr/>
        </p:nvPicPr>
        <p:blipFill>
          <a:blip r:embed="rId2"/>
          <a:stretch/>
        </p:blipFill>
        <p:spPr>
          <a:xfrm>
            <a:off x="1752480" y="20574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990000"/>
                </a:solidFill>
                <a:latin typeface="Times New Roman"/>
              </a:rPr>
              <a:t>Jean de Florette</a:t>
            </a:r>
            <a:br>
              <a:rPr sz="4800"/>
            </a:br>
            <a:r>
              <a:rPr b="1" lang="en-GB" sz="3600" spc="-1" strike="noStrike">
                <a:solidFill>
                  <a:srgbClr val="990000"/>
                </a:solidFill>
                <a:latin typeface="Times New Roman"/>
              </a:rPr>
              <a:t>L’intrigue  - au début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ésar Soubeyran et son neveu, Ug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 quête d’une source d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rentabilité de la cultivation d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œ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mort de leur voisin (Marius / Pique-Bouffi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 nouveau propriétaire - Jean Cado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1986_Jean_de_Florette"/>
          <p:cNvPicPr/>
          <p:nvPr/>
        </p:nvPicPr>
        <p:blipFill>
          <a:blip r:embed="rId1"/>
          <a:stretch/>
        </p:blipFill>
        <p:spPr>
          <a:xfrm>
            <a:off x="3352680" y="419112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990000"/>
                </a:solidFill>
                <a:latin typeface="Times New Roman"/>
              </a:rPr>
              <a:t>Les Personnages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23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 personnages-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nouveux propriétaires - La famille Cado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de Florette / Jean Cado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femme, Aim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petite fille, M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68360" y="4005360"/>
            <a:ext cx="7920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ysan prov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golin de Zulma / Soubey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Jean Cadoret (Jean de Florette)</a:t>
            </a:r>
            <a:br>
              <a:rPr sz="4400"/>
            </a:br>
            <a:r>
              <a:rPr b="0" lang="en-GB" sz="2000" spc="-1" strike="noStrike">
                <a:solidFill>
                  <a:srgbClr val="996633"/>
                </a:solidFill>
                <a:latin typeface="Times New Roman"/>
              </a:rPr>
              <a:t>joué par Gérard Depardieu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1" name="Picture 4" descr="jean2"/>
          <p:cNvPicPr/>
          <p:nvPr/>
        </p:nvPicPr>
        <p:blipFill>
          <a:blip r:embed="rId1"/>
          <a:stretch/>
        </p:blipFill>
        <p:spPr>
          <a:xfrm>
            <a:off x="3240000" y="2338560"/>
            <a:ext cx="41054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Ugolin </a:t>
            </a:r>
            <a:br>
              <a:rPr sz="4400"/>
            </a:br>
            <a:r>
              <a:rPr b="0" i="1" lang="en-GB" sz="2000" spc="-1" strike="noStrike">
                <a:solidFill>
                  <a:srgbClr val="996633"/>
                </a:solidFill>
                <a:latin typeface="Times New Roman"/>
              </a:rPr>
              <a:t>joué par Daniel Auteuil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3" name="Picture 4" descr="ugolin1"/>
          <p:cNvPicPr/>
          <p:nvPr/>
        </p:nvPicPr>
        <p:blipFill>
          <a:blip r:embed="rId1"/>
          <a:stretch/>
        </p:blipFill>
        <p:spPr>
          <a:xfrm>
            <a:off x="4221000" y="2809800"/>
            <a:ext cx="21434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Famille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père de Marcel,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Pagnol -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mon cher surhomme’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p. 21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joseph"/>
          <p:cNvPicPr/>
          <p:nvPr/>
        </p:nvPicPr>
        <p:blipFill>
          <a:blip r:embed="rId1"/>
          <a:stretch/>
        </p:blipFill>
        <p:spPr>
          <a:xfrm>
            <a:off x="1995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Papet (César Soubeyran)</a:t>
            </a:r>
            <a:br>
              <a:rPr sz="4400"/>
            </a:br>
            <a:r>
              <a:rPr b="0" i="1" lang="en-GB" sz="2000" spc="-1" strike="noStrike">
                <a:solidFill>
                  <a:srgbClr val="996633"/>
                </a:solidFill>
                <a:latin typeface="Times New Roman"/>
              </a:rPr>
              <a:t>joué par Yves Montand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5" name="Picture 4" descr="cesar1"/>
          <p:cNvPicPr/>
          <p:nvPr/>
        </p:nvPicPr>
        <p:blipFill>
          <a:blip r:embed="rId1"/>
          <a:stretch/>
        </p:blipFill>
        <p:spPr>
          <a:xfrm>
            <a:off x="3997440" y="2700360"/>
            <a:ext cx="2590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non, fille de Jean et Aimé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7" name="Picture 4" descr="manon1"/>
          <p:cNvPicPr/>
          <p:nvPr/>
        </p:nvPicPr>
        <p:blipFill>
          <a:blip r:embed="rId1"/>
          <a:stretch/>
        </p:blipFill>
        <p:spPr>
          <a:xfrm>
            <a:off x="4230720" y="2714760"/>
            <a:ext cx="2124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0000"/>
                </a:solidFill>
                <a:latin typeface="Times New Roman"/>
              </a:rPr>
              <a:t>La technique cinématographiqu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région de Provence - Le paysage, les acteurs, les noms, les accents (échantillon du DVD - débu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représentation des personnages - Jean, Ug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 rapports entre les personnages - Jean et Aimée, Jean et Man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 techniques employées - La musique, la                          ré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FI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41" name="Picture 3" descr="37"/>
          <p:cNvPicPr/>
          <p:nvPr/>
        </p:nvPicPr>
        <p:blipFill>
          <a:blip r:embed="rId1"/>
          <a:stretch/>
        </p:blipFill>
        <p:spPr>
          <a:xfrm>
            <a:off x="4140360" y="2349360"/>
            <a:ext cx="25398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6633"/>
                </a:solidFill>
                <a:latin typeface="Times New Roman"/>
              </a:rPr>
              <a:t>Useful website addresses</a:t>
            </a:r>
            <a:br>
              <a:rPr sz="4000"/>
            </a:b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ac-strasbourg.fr/pedago/lettres/lecture/Pagnolbio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biographie de Pagn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grignoux.be/dossiers/105/#text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dossier pédagog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web-provence.com/balades/manon-pratiqu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carte de la Prov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carte-france.info/ville-13400-aubagn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carte d’Aubag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fr.wikipedia.org/wiki/Marcel_Pagn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proverbes-citations.com/pagnol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6633"/>
                </a:solidFill>
                <a:latin typeface="Times New Roman"/>
              </a:rPr>
              <a:t>Augustine, mère de Marcel Pagnol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augustine"/>
          <p:cNvPicPr/>
          <p:nvPr/>
        </p:nvPicPr>
        <p:blipFill>
          <a:blip r:embed="rId1"/>
          <a:stretch/>
        </p:blipFill>
        <p:spPr>
          <a:xfrm>
            <a:off x="3492360" y="2781360"/>
            <a:ext cx="2227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Famille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 mère de Marcel – Augus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te en 19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1989000" y="1981080"/>
          <a:ext cx="2716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9000" y="1981080"/>
                    <a:ext cx="271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Naissance de son frère, Paul</a:t>
            </a:r>
            <a:br>
              <a:rPr sz="4400"/>
            </a:b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et de sa soeur, Germain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l en 189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is Germaine en 19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1479600" y="3087720"/>
          <a:ext cx="3736800" cy="19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3087720"/>
                    <a:ext cx="373680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Paul et Germaine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ère et soeur de Marcel Pag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paulgermaine"/>
          <p:cNvPicPr/>
          <p:nvPr/>
        </p:nvPicPr>
        <p:blipFill>
          <a:blip r:embed="rId1"/>
          <a:stretch/>
        </p:blipFill>
        <p:spPr>
          <a:xfrm>
            <a:off x="3203640" y="2637000"/>
            <a:ext cx="324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Na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cel et la nature sauvage – la montagne – le Garlaban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film1.jpg (9004 octets)"/>
          <p:cNvPicPr/>
          <p:nvPr/>
        </p:nvPicPr>
        <p:blipFill>
          <a:blip r:embed="rId1"/>
          <a:stretch/>
        </p:blipFill>
        <p:spPr>
          <a:xfrm>
            <a:off x="1479600" y="2946240"/>
            <a:ext cx="3736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Autobiograph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e Château de ma mè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Souvenirs d’enf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86"/>
          <p:cNvPicPr/>
          <p:nvPr/>
        </p:nvPicPr>
        <p:blipFill>
          <a:blip r:embed="rId1"/>
          <a:stretch/>
        </p:blipFill>
        <p:spPr>
          <a:xfrm>
            <a:off x="2044800" y="1981080"/>
            <a:ext cx="260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6:01:52Z</dcterms:created>
  <dc:creator>Admin</dc:creator>
  <dc:description/>
  <dc:language>en-US</dc:language>
  <cp:lastModifiedBy>Louisa Gibson</cp:lastModifiedBy>
  <cp:lastPrinted>2017-03-08T10:50:08Z</cp:lastPrinted>
  <dcterms:modified xsi:type="dcterms:W3CDTF">2017-03-08T10:50:10Z</dcterms:modified>
  <cp:revision>47</cp:revision>
  <dc:subject/>
  <dc:title>Jean de Florette</dc:title>
</cp:coreProperties>
</file>